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  <p:sldId id="302" r:id="rId58"/>
    <p:sldId id="303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slide" Target="slides/slide47.xml"/><Relationship Id="rId59" Type="http://schemas.openxmlformats.org/officeDocument/2006/relationships/slide" Target="slides/slide48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894A-9500-4F18-B563-8DD31FF32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8A91-6E51-44AF-A988-792C5418A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69FA9D-A4B3-4B4B-80AF-D0B423576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8CE498-ED2E-41DD-A348-2DB01B2C9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6AB8DB-003D-4A15-B3A5-2F23B426B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0E70F6-53FA-4180-97CC-31B36DA0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74D7F6-608B-4C7F-9CDB-89CE495A8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421BD4-25CF-49A3-B642-FAC0AE22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134F13-2AC0-425C-B785-C3191497E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EB62DE-15F0-4A37-A4BE-A6599C17D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ACCAB8-8A7D-4177-A8F9-8AAC67B1D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3E774E-DBD6-484F-B69E-06E767590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DF9E-1EF9-4500-A7E2-52F96B917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B764C5-0DFE-4FC4-BD59-7CCA451E1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B15E4B-0B44-4C43-A7FC-969E4A6A9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FCCB6A-C5E3-4FC1-B61F-89A68560E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F3DF79-ADFB-40E4-9F24-59E41BFAD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26324B-A653-4D71-AE78-3D2137ECF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548448-D3E5-4026-8803-7192A9344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5E1C0D-2954-4668-A593-48464707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EF7D37-E779-4011-9F91-789169571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F54896-CECF-4401-9011-2F5C5AB16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EE09A8-A18A-417F-BF64-3719FBA86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C717-C1BA-40F1-808E-62710D425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1B3A0D-9DE4-44E9-8180-557DE55C4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A39D6-E957-417B-815A-7C7EECCA7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70EB6-7742-465D-89A3-D2C1B0361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DE697-F34F-4FF4-A97B-0411E8736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FA737-3E7D-423E-8BEB-78483DB9C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6D1FA-6ED4-4127-9468-101BFEDB1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7D6E0-49F5-4F19-A6F5-80F96863F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AD2A8-C832-4D54-B69F-E3F66BD0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E299-DE56-4840-BBB4-30D406779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4899C-229C-4087-BEED-013854AF5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56F22-2F58-4413-9C0E-62386CA19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90C1B-1BF7-4CE0-8E1B-702742742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2DFFF-9228-4D15-A151-3601721F9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CFF19-788D-44B7-B4CB-2D72FED99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8DD25-E307-4F1A-B258-9291D4457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C3CE5-0D86-4C7E-8ACE-00FD0C2AF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D8092-0604-4D25-8C55-B2231C261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46E0A-2A48-4976-B335-3A5336D05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19974-EC98-4CF6-9247-195680529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8F60-E8A6-428F-93B1-B3BA5F813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CE985-DCAD-4875-9E1C-AD0D9FD5F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514F7-78A6-4292-ABF2-D231928A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3E9D0-4726-4477-BE6E-6F2FB4AF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D6A28-3C55-402E-8533-8900C726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57D99-3D27-42EF-B033-BB9470127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0AB31-3A98-4A5E-B205-084279259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E6286-F9EE-47DD-95B6-9E3BE7454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DDE46-93FC-4399-BF30-E1C90DD38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14DE0-9DC4-46FF-B07C-3ED96AABA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4C34A-5A4E-4FB4-B9A8-BD6B1D586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83BC-E7E9-4960-976A-AB1D4DFB7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E8724-B999-4D5B-AB14-12D556A6A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F7546-7220-4F0A-B399-2D74C5A65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61882-2B69-46FD-A90D-C651D4E57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2B030-B8A4-4381-9D44-59BCCC4E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4D21B-B7EC-4396-BC48-CBFD88CE2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76181-E52D-4CA5-864F-56DE7451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6D015-9C47-4632-9110-ED5ED7355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2E891-28EB-4696-8D0F-E1244EBDD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F92EB-8CCB-411A-84DE-6A12F2D93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36DB66-84EA-461F-8818-8A36891AF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18FA-2A25-40F9-A8CF-B1E897F3D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2E361-E04C-4F07-8C46-E44A6B1AF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B71AD-D8A0-476A-8E70-D23A84312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3D8D73-1865-45C4-985D-E42FDAC8C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2C58B-2EAD-4AB1-BCB4-420A4924B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5AD17-0076-4C67-B57D-6424ED5DB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0F7B3B-46D6-422B-B558-848BC70E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EE2F6D-6C1B-494C-B2A6-544502192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04D9B4-012C-462E-9560-13A4A1AFF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CF79A-1E31-45F7-BC2D-D5805E8CE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B9BB9-B63E-43B2-9B1E-3E479C671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5E6E-58C7-4C3F-ACD1-2E205987F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DC31E-9030-44CA-863F-034F9E26B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C2316E-496E-46E4-9107-FFBE62CC6CC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7A1138-CBB5-4A81-B7BC-80B0019E4D9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4D2890-149F-4880-84DE-4F9D7790B76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B36DB4-AA41-421D-A548-B8A46027F86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3C97D3-3464-4E23-B633-06BD2A050BD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4F702F-1772-418A-904F-2CFA6EF91BC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81EB52-4304-4AB0-8BE4-CA2FAEA5AAD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E990B7-6239-4AB4-9421-30F1FCFB0AA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8B8906-526E-4885-9FBD-698A428432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89CE-21B0-462D-94D4-757FA552E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EB6085-BAAC-4284-9E8C-56762B3BD0C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D1BEDC-A620-4215-8EE8-CC796CC230F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577314-AEF9-43A8-B6CE-678BA42184E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B098036-B9BD-438A-BB84-91FAD0DD483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F9D7694-0CC8-4C05-BE03-B9847E9FEC4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B6973BC-2961-4319-9F78-25DA32DFFDB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FFDDA8A-1752-4620-8DFC-21D4D69C10A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776B2A6-3052-400C-86A0-54446C0C261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E9F3A5C-084A-4F3B-AC5C-458030AB1F4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2F2839D-6501-4E8F-8E4A-95B785CE8F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DF2E-365C-4858-9960-7165D1D91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8AD9D5E-757C-44FA-B5A1-9546BA0D715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0EB41B1-0131-4DA0-976A-24C2A5E4E28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B33C27D-FEBA-462D-8D79-8CE167ABA9C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30974E4-BF74-425F-92DB-54549E88782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B3E1273-4818-4059-979C-E0B9B7560BB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936D2F3-62B7-4A38-8160-3C377C0DC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ED37582-FFDA-416D-A63F-02702FE1B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A97DEAC-613D-43D4-94D0-7ACC971C6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4F8508D-DE13-40EC-8F88-F67DF7027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AE684CA-D9D6-41F5-8BE4-D97221535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0ECF-E1BC-49D4-A4AE-45B42D79D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20F2C41-557D-41D3-B2D8-B2F3647A9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2AB922F-97EC-4810-92B0-92939FAB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01BF0C3-46E9-41A0-860C-A9FECC316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FE65A00-B8F7-4EC5-833A-D2E4EE3F3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85A1177-E9D1-4051-8626-D55D86D94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F54EF50-0AFA-4B76-8618-BAD7D6C9B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399D962-0B42-4A21-AD7B-8BD44BBB7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1A690A-8772-46CD-A106-57ECBB238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BFC268-4F1D-483E-A21F-B427620B9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0978B7-5E66-4068-A995-DB33C0CF0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 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6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1F718429-873D-4577-957B-F2CF0A94B3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aholowinsky\Documents\McGrawHill\Sayre_MICRO_0070385467_72dpi.jpg"/>
          <p:cNvPicPr/>
          <p:nvPr/>
        </p:nvPicPr>
        <p:blipFill>
          <a:blip r:embed="rId2"/>
          <a:srcRect l="329" t="8890" r="0" b="76669"/>
          <a:stretch/>
        </p:blipFill>
        <p:spPr>
          <a:xfrm>
            <a:off x="3048120" y="838080"/>
            <a:ext cx="4038480" cy="6955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Users\aholowinsky\Documents\McGrawHill\Sayre_MICRO_0070385467_72dpi.jpg"/>
          <p:cNvPicPr/>
          <p:nvPr/>
        </p:nvPicPr>
        <p:blipFill>
          <a:blip r:embed="rId3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43" name="Straight Connector 9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Straight Connector 10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Box 11"/>
          <p:cNvSpPr/>
          <p:nvPr/>
        </p:nvSpPr>
        <p:spPr>
          <a:xfrm>
            <a:off x="5562720" y="1828800"/>
            <a:ext cx="2931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7933c"/>
                </a:solidFill>
                <a:latin typeface="Kalinga"/>
                <a:ea typeface="Kalinga"/>
              </a:rPr>
              <a:t>SAYRE  |  MORRIS      </a:t>
            </a:r>
            <a:r>
              <a:rPr b="1" lang="en-US" sz="1100" spc="-1" strike="noStrike">
                <a:solidFill>
                  <a:srgbClr val="fa4160"/>
                </a:solidFill>
                <a:latin typeface="Kalinga"/>
                <a:ea typeface="Kalinga"/>
              </a:rPr>
              <a:t>Seventh Edit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584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88" name="Straight Connector 6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traight Connector 7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Box 17"/>
          <p:cNvSpPr/>
          <p:nvPr/>
        </p:nvSpPr>
        <p:spPr>
          <a:xfrm>
            <a:off x="468360" y="2392200"/>
            <a:ext cx="479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earning Objectiv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69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A8A260EC-14E9-43B3-8CB8-5E89697E21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133" name="Straight Connector 6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Straight Connector 7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69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C6662155-2FA3-4D4C-9CC2-7C743D70F0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1987560"/>
            <a:ext cx="3859200" cy="2595600"/>
          </a:xfrm>
          <a:prstGeom prst="rect">
            <a:avLst/>
          </a:prstGeom>
          <a:ln w="0">
            <a:noFill/>
          </a:ln>
        </p:spPr>
      </p:pic>
      <p:sp>
        <p:nvSpPr>
          <p:cNvPr id="177" name="Straight Connector 9"/>
          <p:cNvSpPr/>
          <p:nvPr/>
        </p:nvSpPr>
        <p:spPr>
          <a:xfrm>
            <a:off x="0" y="198612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traight Connector 10"/>
          <p:cNvSpPr/>
          <p:nvPr/>
        </p:nvSpPr>
        <p:spPr>
          <a:xfrm>
            <a:off x="0" y="4591080"/>
            <a:ext cx="9144000" cy="792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D3324E42-EAFB-4D67-A2BA-F4C84078BF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D5C3DFB8-5B22-4A63-931D-72BC35C470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455DCFC2-CDE5-49D0-B298-E3BDF0944C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0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A7B401B7-B1D8-45F1-A159-B4A5987D87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3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372296E6-F76B-44E8-89A6-FE49B36A09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6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6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6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6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285720"/>
            <a:ext cx="7772400" cy="215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77933c"/>
                </a:solidFill>
                <a:latin typeface="Kalinga"/>
                <a:ea typeface="Kalinga"/>
              </a:rPr>
              <a:t>Monopoly</a:t>
            </a:r>
            <a:endParaRPr b="0" lang="en-US" sz="66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371600" y="281772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Kalinga"/>
                <a:ea typeface="Kalinga"/>
              </a:rPr>
              <a:t>CHAPTER 10</a:t>
            </a:r>
            <a:endParaRPr b="0" lang="en-US" sz="2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B61927BD-9629-408E-87C0-51AEA802EF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Picture 2" descr="ftp://ftp.eppg.com/Sayre%20Micro%20images/Chapter%2010/SAYRE-MICRO-10-F10-1.jpg"/>
          <p:cNvPicPr/>
          <p:nvPr/>
        </p:nvPicPr>
        <p:blipFill>
          <a:blip r:embed="rId1"/>
          <a:stretch/>
        </p:blipFill>
        <p:spPr>
          <a:xfrm>
            <a:off x="0" y="824040"/>
            <a:ext cx="9144000" cy="356220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 txBox="1"/>
          <p:nvPr/>
        </p:nvSpPr>
        <p:spPr>
          <a:xfrm>
            <a:off x="446040" y="4678200"/>
            <a:ext cx="8028000" cy="15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 order to increase sales, a monopolist is forced to reduce price not just on the last units sold, but on the whole of its outpu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Picture 2" descr="ftp://ftp.eppg.com/Sayre%20Micro%20images/Chapter%2010/SAYRE-MICRO-10-F10-2.jpg"/>
          <p:cNvPicPr/>
          <p:nvPr/>
        </p:nvPicPr>
        <p:blipFill>
          <a:blip r:embed="rId1"/>
          <a:stretch/>
        </p:blipFill>
        <p:spPr>
          <a:xfrm>
            <a:off x="439560" y="0"/>
            <a:ext cx="803628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457200" y="1722600"/>
            <a:ext cx="822960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otal revenue is maximized when the marginal revenue is zero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monopolist will produce only where the demand is elastic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DFC25D1A-F5D6-41BE-82D9-8E9C5275A4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onopol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58C3DB7F-391D-48CA-992C-5903BD0FD6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3"/>
          <p:cNvSpPr/>
          <p:nvPr/>
        </p:nvSpPr>
        <p:spPr>
          <a:xfrm>
            <a:off x="882720" y="1233360"/>
            <a:ext cx="7378560" cy="51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a monopolist was charging a price of $50 for its product and was selling 15 units. It has now lowered its price to $48 and is selling 16 units. What is the marginal revenue? What is the price elasticity of demand over this price range?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F6EC7909-3F19-4152-A7D7-E3CC0ED895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882720" y="1244520"/>
            <a:ext cx="7378560" cy="51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a monopolist was charging a price of $50 for its product and was selling 15 units. It has now lowered its price to $48 and is selling 16 units. What is the marginal revenue? What is the price elasticity of demand over this price range?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TextBox 10"/>
          <p:cNvSpPr/>
          <p:nvPr/>
        </p:nvSpPr>
        <p:spPr>
          <a:xfrm>
            <a:off x="925560" y="3252960"/>
            <a:ext cx="715464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Marginal revenue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:  $18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Total revenue at a price of $50 is $750 (15 x $50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Total revenue at a price of $48 is $768 (16 x $48) </a:t>
            </a:r>
            <a:br>
              <a:rPr sz="2400"/>
            </a:b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The extra unit produces extra total revenue of </a:t>
            </a:r>
            <a:br>
              <a:rPr sz="2400"/>
            </a:b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$18 ($768 – $750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Elasticity: e   =  </a:t>
            </a:r>
            <a:r>
              <a:rPr b="0" i="1" lang="en-GB" sz="2200" spc="-1" strike="noStrike" u="sng">
                <a:solidFill>
                  <a:srgbClr val="ff0000"/>
                </a:solidFill>
                <a:uFillTx/>
                <a:latin typeface="Times New Roman"/>
              </a:rPr>
              <a:t> % D Q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=   </a:t>
            </a:r>
            <a:r>
              <a:rPr b="0" i="1" lang="en-GB" sz="2200" spc="-1" strike="noStrike" u="sng">
                <a:solidFill>
                  <a:srgbClr val="ff0000"/>
                </a:solidFill>
                <a:uFillTx/>
                <a:latin typeface="Times New Roman"/>
              </a:rPr>
              <a:t> 1/15.5 x 100 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=  </a:t>
            </a:r>
            <a:r>
              <a:rPr b="0" i="1" lang="en-GB" sz="2200" spc="-1" strike="noStrike" u="sng">
                <a:solidFill>
                  <a:srgbClr val="ff0000"/>
                </a:solidFill>
                <a:uFillTx/>
                <a:latin typeface="Times New Roman"/>
              </a:rPr>
              <a:t> 6.5%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  =   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</a:rPr>
              <a:t>1.59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% D P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       2/49   x 100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       4.1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457200" y="1595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Total Revenue Approach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maximum profit is where the difference between total revenue (TR) and total cost (TC) is greatest 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he maximum profit point is shown on the total profit curve, where it occurs at the highest point.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he maximum profit point also occurs where the slope of TR (same as MR) equals the slope of TC (same as MC) 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he break-even points occur where total revenue and cost are the same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80B2D54C-D94A-4B38-BE15-B2AE26E126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ximizing Profit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0" name="Picture 2" descr="ftp://ftp.eppg.com/Sayre%20Micro%20images/Chapter%2010/SAYRE-MICRO-10-T10-2.jpg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4173480"/>
          </a:xfrm>
          <a:prstGeom prst="rect">
            <a:avLst/>
          </a:prstGeom>
          <a:ln w="0">
            <a:noFill/>
          </a:ln>
        </p:spPr>
      </p:pic>
      <p:sp>
        <p:nvSpPr>
          <p:cNvPr id="50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AEB76B56-DBA1-4263-A5DE-BEAA0B86FC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4" name="Picture 2" descr="ftp://ftp.eppg.com/Sayre%20Micro%20images/Chapter%2010/SAYRE-MICRO-10-F10-3.jpg"/>
          <p:cNvPicPr/>
          <p:nvPr/>
        </p:nvPicPr>
        <p:blipFill>
          <a:blip r:embed="rId1"/>
          <a:stretch/>
        </p:blipFill>
        <p:spPr>
          <a:xfrm>
            <a:off x="0" y="414360"/>
            <a:ext cx="9144000" cy="6534000"/>
          </a:xfrm>
          <a:prstGeom prst="rect">
            <a:avLst/>
          </a:prstGeom>
          <a:ln w="0">
            <a:noFill/>
          </a:ln>
        </p:spPr>
      </p:pic>
      <p:sp>
        <p:nvSpPr>
          <p:cNvPr id="5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1C6D03E9-6CF4-40BE-BAC6-224177FD9A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 txBox="1"/>
          <p:nvPr/>
        </p:nvSpPr>
        <p:spPr>
          <a:xfrm>
            <a:off x="457200" y="1604520"/>
            <a:ext cx="822960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Marginal Revenue Approach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fits are maximized (or losses minimized) at an output where MR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C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ame profit maximization rule as perfectly competitive firm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9FBEF1FE-1FE6-46C6-A900-733CC28CF6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ximizing Profit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8906C339-4A09-43D5-87CA-61B501891A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4" name="Picture 2" descr="ftp://ftp.eppg.com/Sayre%20Micro%20images/Chapter%2010/SAYRE-MICRO-10-T10-3.jpg"/>
          <p:cNvPicPr/>
          <p:nvPr/>
        </p:nvPicPr>
        <p:blipFill>
          <a:blip r:embed="rId1"/>
          <a:stretch/>
        </p:blipFill>
        <p:spPr>
          <a:xfrm>
            <a:off x="0" y="676440"/>
            <a:ext cx="9144000" cy="4597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Kalinga"/>
              </a:rPr>
              <a:t>Monopoly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6840" y="3030480"/>
            <a:ext cx="8381880" cy="33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Times New Roman"/>
              </a:rPr>
              <a:t>LO1:  Define a monopoly, explain how they come into existence and why they must reduce their prices to sell more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Times New Roman"/>
              </a:rPr>
              <a:t>LO2:  Understand how the profit-maximizing output and price are determined for a monopolist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Times New Roman"/>
              </a:rPr>
              <a:t>LO3:  Explain five grounds on which monopolies can be criticized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Times New Roman"/>
              </a:rPr>
              <a:t>LO4:  Explain the significant difference between monopoly and perfect competition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10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79DE2728-8670-42A8-88BC-D88934426D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80069496-47BF-4EB8-A139-6F0ACA75AB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8" name="Picture 2" descr="ftp://ftp.eppg.com/Sayre%20Micro%20images/Chapter%2010/SAYRE-MICRO-10-F10-4.jpg"/>
          <p:cNvPicPr/>
          <p:nvPr/>
        </p:nvPicPr>
        <p:blipFill>
          <a:blip r:embed="rId1"/>
          <a:stretch/>
        </p:blipFill>
        <p:spPr>
          <a:xfrm>
            <a:off x="0" y="1100160"/>
            <a:ext cx="9144000" cy="4152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457200" y="1978200"/>
            <a:ext cx="8229600" cy="41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nopolists are not always profitabl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pends on costs – if AC curve is higher than the demand curve at all output levels, will have a los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n minimize loss using the profit maximization rul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FE707B62-66E0-4311-8764-50B6385305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inimizing Loss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86AECDBC-A56E-47E3-8CFD-93D750907E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7" name="Picture 2" descr="ftp://ftp.eppg.com/Sayre%20Micro%20images/Chapter%2010/SAYRE-MICRO-10-F10-5.jpg"/>
          <p:cNvPicPr/>
          <p:nvPr/>
        </p:nvPicPr>
        <p:blipFill>
          <a:blip r:embed="rId1"/>
          <a:stretch/>
        </p:blipFill>
        <p:spPr>
          <a:xfrm>
            <a:off x="0" y="1022400"/>
            <a:ext cx="9144000" cy="4059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496145CE-7BB3-443A-8335-D84C724823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Rectangle 3"/>
          <p:cNvSpPr/>
          <p:nvPr/>
        </p:nvSpPr>
        <p:spPr>
          <a:xfrm>
            <a:off x="882720" y="1212840"/>
            <a:ext cx="7378560" cy="51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 the following table and indicate the break-even outputs and the profit maximizing output: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3" name=""/>
          <p:cNvGraphicFramePr/>
          <p:nvPr/>
        </p:nvGraphicFramePr>
        <p:xfrm>
          <a:off x="861840" y="2087640"/>
          <a:ext cx="7569360" cy="3462120"/>
        </p:xfrm>
        <a:graphic>
          <a:graphicData uri="http://schemas.openxmlformats.org/drawingml/2006/table">
            <a:tbl>
              <a:tblPr/>
              <a:tblGrid>
                <a:gridCol w="1079640"/>
                <a:gridCol w="1222560"/>
                <a:gridCol w="1963440"/>
                <a:gridCol w="1704960"/>
                <a:gridCol w="1598760"/>
              </a:tblGrid>
              <a:tr h="576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Quant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Price (=A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otal Revenue (T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otal Costs (T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otal Profit (Tπ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$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$20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89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8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1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7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1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9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1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9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2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8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2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9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7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4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8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5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21172CA7-D919-45BE-811F-F710C981C6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3"/>
          <p:cNvSpPr/>
          <p:nvPr/>
        </p:nvSpPr>
        <p:spPr>
          <a:xfrm>
            <a:off x="882720" y="1212840"/>
            <a:ext cx="7378560" cy="51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 the following table and indicate the break-even outputs and the profit maximizing output: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Box 10"/>
          <p:cNvSpPr/>
          <p:nvPr/>
        </p:nvSpPr>
        <p:spPr>
          <a:xfrm>
            <a:off x="914400" y="5572080"/>
            <a:ext cx="715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reak-even (TR=TC) occur at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22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27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.  </a:t>
            </a:r>
            <a:br>
              <a:rPr sz="2400"/>
            </a:b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Profit-maximizing output occurs at an output of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861840" y="2087640"/>
          <a:ext cx="7569360" cy="3462120"/>
        </p:xfrm>
        <a:graphic>
          <a:graphicData uri="http://schemas.openxmlformats.org/drawingml/2006/table">
            <a:tbl>
              <a:tblPr/>
              <a:tblGrid>
                <a:gridCol w="1079640"/>
                <a:gridCol w="1222560"/>
                <a:gridCol w="1963440"/>
                <a:gridCol w="1704960"/>
                <a:gridCol w="1598760"/>
              </a:tblGrid>
              <a:tr h="576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Quant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Price (=A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otal Revenue (T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otal Costs (T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otal Profit (Tπ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$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$20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‑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89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 0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‑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8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 1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1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7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 1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1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9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 2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1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9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 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2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8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 2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2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9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 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7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 3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4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‑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8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 3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5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‑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457200" y="1978200"/>
            <a:ext cx="8229600" cy="41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le to make economic profits indefinitely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e both productively and allocatively inefficien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duce less and charge a higher price than a competitive industry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reating a more unequal distribution of income and wealth within society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sing their power to practice price discrimination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ACE58A3E-16A1-4BFC-B7A3-84E8F80A21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Criticisms of Monopolie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262FF117-F16F-4705-8B1E-25A3D78412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Rectangle 3"/>
          <p:cNvSpPr/>
          <p:nvPr/>
        </p:nvSpPr>
        <p:spPr>
          <a:xfrm>
            <a:off x="882720" y="1212840"/>
            <a:ext cx="7378560" cy="52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following table shows the demand for haircuts: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this was a single-price barber, what would be the total revenue for six haircuts?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this barber was able to practice perfect price discrimination by charging each customer the maximum they would pay, what would be the total revenue for six haircuts?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2519280" y="1662120"/>
          <a:ext cx="4105440" cy="2495520"/>
        </p:xfrm>
        <a:graphic>
          <a:graphicData uri="http://schemas.openxmlformats.org/drawingml/2006/table">
            <a:tbl>
              <a:tblPr/>
              <a:tblGrid>
                <a:gridCol w="1970280"/>
                <a:gridCol w="2135160"/>
              </a:tblGrid>
              <a:tr h="357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7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7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7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9A297575-0BC3-4B45-B768-D65242BF42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Rectangle 3"/>
          <p:cNvSpPr/>
          <p:nvPr/>
        </p:nvSpPr>
        <p:spPr>
          <a:xfrm>
            <a:off x="882720" y="1212840"/>
            <a:ext cx="7378560" cy="52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following table shows the demand for haircuts: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this was a single-price barber, what would be the total revenue for six haircuts?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this barber was able to practice perfect price discrimination by charging each customer the maximum they would pay, what would be the total revenue for six haircuts?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Box 10"/>
          <p:cNvSpPr/>
          <p:nvPr/>
        </p:nvSpPr>
        <p:spPr>
          <a:xfrm>
            <a:off x="3827520" y="4538520"/>
            <a:ext cx="4051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200" spc="-1" strike="noStrike">
                <a:solidFill>
                  <a:srgbClr val="ff0000"/>
                </a:solidFill>
                <a:latin typeface="Times New Roman"/>
              </a:rPr>
              <a:t>TR $90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 ($15 x 6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8" name=""/>
          <p:cNvGraphicFramePr/>
          <p:nvPr/>
        </p:nvGraphicFramePr>
        <p:xfrm>
          <a:off x="2519280" y="1662120"/>
          <a:ext cx="4105440" cy="2495520"/>
        </p:xfrm>
        <a:graphic>
          <a:graphicData uri="http://schemas.openxmlformats.org/drawingml/2006/table">
            <a:tbl>
              <a:tblPr/>
              <a:tblGrid>
                <a:gridCol w="1970280"/>
                <a:gridCol w="2135160"/>
              </a:tblGrid>
              <a:tr h="357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7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7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7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9" name="TextBox 8"/>
          <p:cNvSpPr/>
          <p:nvPr/>
        </p:nvSpPr>
        <p:spPr>
          <a:xfrm>
            <a:off x="1268280" y="5902200"/>
            <a:ext cx="6311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200" spc="-1" strike="noStrike">
                <a:solidFill>
                  <a:srgbClr val="ff0000"/>
                </a:solidFill>
                <a:latin typeface="Times New Roman"/>
              </a:rPr>
              <a:t>TR $105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  ($20 + $19 + $18 + $17 + $16 + $15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 txBox="1"/>
          <p:nvPr/>
        </p:nvSpPr>
        <p:spPr>
          <a:xfrm>
            <a:off x="457200" y="1978200"/>
            <a:ext cx="8229600" cy="41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nopolies charge higher prices than perfectly competitive firms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nopolies produce lower outputs than perfectly competitive firms and these outputs are below economic capacity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nopolies, unlike perfectly competitive firms, may make economic profits in the short run and in the long run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0D7356AB-7CE3-49C8-B2EA-AFB9A2705C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46040" y="317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Perfect Competition v Monopoly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D3C61FEA-1F25-40A3-A023-553CCF31D1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8" name="Picture 2" descr="ftp://ftp.eppg.com/Sayre%20Micro%20images/Chapter%2010/SAYRE-MICRO-10-F10-7.jpg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4321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Kalinga"/>
              </a:rPr>
              <a:t>Monopoly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6840" y="3030480"/>
            <a:ext cx="8381880" cy="33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Times New Roman"/>
              </a:rPr>
              <a:t>LO5:  Explain three grounds on which monopolies can be defended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Times New Roman"/>
              </a:rPr>
              <a:t>LO6:  Discuss ways that governments can change the behaviour of monopolies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10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03FE6460-7E1B-479B-9CDA-2B25BC1DBD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749FF523-BC41-403D-9EC3-21754F7610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2" name="Picture 2" descr="ftp://ftp.eppg.com/Sayre%20Micro%20images/Chapter%2010/SAYRE-MICRO-10-F10-8.jpg"/>
          <p:cNvPicPr/>
          <p:nvPr/>
        </p:nvPicPr>
        <p:blipFill>
          <a:blip r:embed="rId1"/>
          <a:stretch/>
        </p:blipFill>
        <p:spPr>
          <a:xfrm>
            <a:off x="0" y="0"/>
            <a:ext cx="810252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06C3DBBA-6CE8-4691-B0E6-05BF4D8955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Rectangle 3"/>
          <p:cNvSpPr/>
          <p:nvPr/>
        </p:nvSpPr>
        <p:spPr>
          <a:xfrm>
            <a:off x="4954680" y="1403280"/>
            <a:ext cx="3519360" cy="50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the graph opposite depicts a competitive market, what is the equilibrium price and quantity? </a:t>
            </a:r>
            <a:br>
              <a:rPr sz="2200"/>
            </a:br>
            <a:br>
              <a:rPr sz="2200"/>
            </a:b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the graph opposite depicts a monopolist, what is the equilibrium price and quantity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8" name="Picture 2" descr="ftp://ftp.eppg.com/Sayre%20Micro%20images/Chapter%2010/SAYRE-MICRO-10-p316.jpg"/>
          <p:cNvPicPr/>
          <p:nvPr/>
        </p:nvPicPr>
        <p:blipFill>
          <a:blip r:embed="rId1"/>
          <a:stretch/>
        </p:blipFill>
        <p:spPr>
          <a:xfrm>
            <a:off x="382680" y="1468440"/>
            <a:ext cx="4471920" cy="4375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8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68AE63F2-FF45-4F64-892E-2C8F1B2756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Rectangle 3"/>
          <p:cNvSpPr/>
          <p:nvPr/>
        </p:nvSpPr>
        <p:spPr>
          <a:xfrm>
            <a:off x="4954680" y="1403280"/>
            <a:ext cx="3519360" cy="50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the graph opposite depicts a competitive market, what is the equilibrium price and quantity? </a:t>
            </a:r>
            <a:br>
              <a:rPr sz="2200"/>
            </a:br>
            <a:br>
              <a:rPr sz="2200"/>
            </a:b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the graph opposite depicts a monopolist, what is the equilibrium price and quantity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Box 10"/>
          <p:cNvSpPr/>
          <p:nvPr/>
        </p:nvSpPr>
        <p:spPr>
          <a:xfrm>
            <a:off x="5040360" y="2793960"/>
            <a:ext cx="358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Price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</a:rPr>
              <a:t>:  $30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; Quantity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</a:rPr>
              <a:t>:  3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5" name="Picture 2" descr="ftp://ftp.eppg.com/Sayre%20Micro%20images/Chapter%2010/SAYRE-MICRO-10-p316.jpg"/>
          <p:cNvPicPr/>
          <p:nvPr/>
        </p:nvPicPr>
        <p:blipFill>
          <a:blip r:embed="rId1"/>
          <a:stretch/>
        </p:blipFill>
        <p:spPr>
          <a:xfrm>
            <a:off x="382680" y="1468440"/>
            <a:ext cx="4471920" cy="4375080"/>
          </a:xfrm>
          <a:prstGeom prst="rect">
            <a:avLst/>
          </a:prstGeom>
          <a:ln w="0">
            <a:noFill/>
          </a:ln>
        </p:spPr>
      </p:pic>
      <p:sp>
        <p:nvSpPr>
          <p:cNvPr id="586" name="Straight Connector 9"/>
          <p:cNvSpPr/>
          <p:nvPr/>
        </p:nvSpPr>
        <p:spPr>
          <a:xfrm>
            <a:off x="1084320" y="1935000"/>
            <a:ext cx="1711440" cy="3318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Straight Connector 13"/>
          <p:cNvSpPr/>
          <p:nvPr/>
        </p:nvSpPr>
        <p:spPr>
          <a:xfrm flipV="1">
            <a:off x="2179800" y="2828880"/>
            <a:ext cx="0" cy="1254240"/>
          </a:xfrm>
          <a:prstGeom prst="line">
            <a:avLst/>
          </a:prstGeom>
          <a:ln w="442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Oval 14"/>
          <p:cNvSpPr/>
          <p:nvPr/>
        </p:nvSpPr>
        <p:spPr>
          <a:xfrm>
            <a:off x="2093760" y="2732040"/>
            <a:ext cx="181080" cy="181080"/>
          </a:xfrm>
          <a:prstGeom prst="ellipse">
            <a:avLst/>
          </a:prstGeom>
          <a:solidFill>
            <a:srgbClr val="7f7f7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Box 15"/>
          <p:cNvSpPr/>
          <p:nvPr/>
        </p:nvSpPr>
        <p:spPr>
          <a:xfrm>
            <a:off x="5049720" y="4846680"/>
            <a:ext cx="358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Price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</a:rPr>
              <a:t>:  $40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; Quantity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</a:rPr>
              <a:t>:  2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Oval 16"/>
          <p:cNvSpPr/>
          <p:nvPr/>
        </p:nvSpPr>
        <p:spPr>
          <a:xfrm>
            <a:off x="2714760" y="3341520"/>
            <a:ext cx="180720" cy="181080"/>
          </a:xfrm>
          <a:prstGeom prst="ellipse">
            <a:avLst/>
          </a:prstGeom>
          <a:solidFill>
            <a:srgbClr val="7f7f7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5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 txBox="1"/>
          <p:nvPr/>
        </p:nvSpPr>
        <p:spPr>
          <a:xfrm>
            <a:off x="457200" y="1978200"/>
            <a:ext cx="8229600" cy="41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y capture large economies of scale in production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y engage in extensive research and development into new techniques of production and new products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y attract high-quality staff by offering relatively high wages and good working conditions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07680D27-FD02-4679-8B95-04A8505240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fence of Monopolie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 txBox="1"/>
          <p:nvPr/>
        </p:nvSpPr>
        <p:spPr>
          <a:xfrm>
            <a:off x="457200" y="1690200"/>
            <a:ext cx="822960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gle producer who is able to produce at a lower cost than competing firms could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sually in a market with large economies of scal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1BF566DB-7FF2-4371-B23B-D974D144ED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Natural Monopol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AECC9EA3-465E-4AC4-8D69-1154C2D4DE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4" name="Picture 2" descr="ftp://ftp.eppg.com/Sayre%20Micro%20images/Chapter%2010/SAYRE-MICRO-10-F10-9.jpg"/>
          <p:cNvPicPr/>
          <p:nvPr/>
        </p:nvPicPr>
        <p:blipFill>
          <a:blip r:embed="rId1"/>
          <a:srcRect l="0" t="0" r="27406" b="0"/>
          <a:stretch/>
        </p:blipFill>
        <p:spPr>
          <a:xfrm>
            <a:off x="0" y="638280"/>
            <a:ext cx="9144000" cy="5421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 txBox="1"/>
          <p:nvPr/>
        </p:nvSpPr>
        <p:spPr>
          <a:xfrm>
            <a:off x="457200" y="1690200"/>
            <a:ext cx="822960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oods or services regarded as essential and therefore usually provided by government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mpetition may well be costly and wasteful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B32B4F3D-EB44-4694-A4A0-EBA995FBB2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Public Utilitie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B1D586D1-D06B-4478-91EF-2C9C35C315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3"/>
          <p:cNvSpPr/>
          <p:nvPr/>
        </p:nvSpPr>
        <p:spPr>
          <a:xfrm>
            <a:off x="5221440" y="1424160"/>
            <a:ext cx="3517920" cy="50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gure 10.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posite, suppose there are two competing rail companies, each with 50 % of the market. What would be the profit or loss for each if they both charged $1.50? </a:t>
            </a:r>
            <a:br>
              <a:rPr sz="2200"/>
            </a:br>
            <a:br>
              <a:rPr sz="2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5" name="Picture 2" descr="ftp://ftp.eppg.com/Sayre%20Micro%20images/Chapter%2010/SAYRE-MICRO-10-F10-9.jpg"/>
          <p:cNvPicPr/>
          <p:nvPr/>
        </p:nvPicPr>
        <p:blipFill>
          <a:blip r:embed="rId1"/>
          <a:srcRect l="10216" t="13536" r="38042" b="0"/>
          <a:stretch/>
        </p:blipFill>
        <p:spPr>
          <a:xfrm>
            <a:off x="201600" y="1222200"/>
            <a:ext cx="4937040" cy="3551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89CC6021-F6CC-462F-BB46-0D4F17E0FC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Rectangle 3"/>
          <p:cNvSpPr/>
          <p:nvPr/>
        </p:nvSpPr>
        <p:spPr>
          <a:xfrm>
            <a:off x="5221440" y="1424160"/>
            <a:ext cx="3517920" cy="50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gure 10.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posite, suppose there are two competing rail companies, each with 50 % of the market. What would be the profit or loss for each if they both charged $1.50? </a:t>
            </a:r>
            <a:br>
              <a:rPr sz="2200"/>
            </a:br>
            <a:br>
              <a:rPr sz="2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10"/>
          <p:cNvSpPr/>
          <p:nvPr/>
        </p:nvSpPr>
        <p:spPr>
          <a:xfrm>
            <a:off x="584280" y="4854600"/>
            <a:ext cx="819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At $1.50 the quantity demanded is 100 000, or 50 000 each.  The average cost of servicing 50 000 riders is $2.50.  This means that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each company would lose $1.00 for each fare, for a total loss of $50 000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per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Picture 2" descr="ftp://ftp.eppg.com/Sayre%20Micro%20images/Chapter%2010/SAYRE-MICRO-10-F10-9.jpg"/>
          <p:cNvPicPr/>
          <p:nvPr/>
        </p:nvPicPr>
        <p:blipFill>
          <a:blip r:embed="rId1"/>
          <a:srcRect l="10216" t="13536" r="38042" b="0"/>
          <a:stretch/>
        </p:blipFill>
        <p:spPr>
          <a:xfrm>
            <a:off x="201600" y="1222200"/>
            <a:ext cx="4937040" cy="3551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 txBox="1"/>
          <p:nvPr/>
        </p:nvSpPr>
        <p:spPr>
          <a:xfrm>
            <a:off x="457200" y="1891800"/>
            <a:ext cx="822960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options: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axing the monopolist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overnment price setting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ationalization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1BD1FA61-5E98-41D2-8BEF-24DF0F98A8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Government Control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457200" y="1595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Monopoly 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market in which a single firm (the monopolist) is the sole producer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tected from new competitors by barriers to entry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Barriers to Entry 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bstacles that make it difficult for new participants to enter a marke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D8ED98A4-F7A8-4299-AFEE-9216EDD410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onopol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 txBox="1"/>
          <p:nvPr/>
        </p:nvSpPr>
        <p:spPr>
          <a:xfrm>
            <a:off x="457200" y="1891800"/>
            <a:ext cx="822960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Lump sum Profits Tax: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ffects fixed cost but not variable cos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creases average cost but marginal cost is unaffected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utput and price levels are unaffected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ower profit (due to higher costs)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11D58FC4-E4DC-4F32-BC46-87059B8689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Taxing the Monopoli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F2BBE73C-BE69-49A2-89C5-01F4D4CC09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6" name="Picture 4" descr="ftp://ftp.eppg.com/Sayre%20Micro%20images/Chapter%2010/SAYRE-MICRO-10-F10-10.jpg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4013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 txBox="1"/>
          <p:nvPr/>
        </p:nvSpPr>
        <p:spPr>
          <a:xfrm>
            <a:off x="457200" y="1679400"/>
            <a:ext cx="8229600" cy="444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Monopoly Sales Tax: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ax on each unit sold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creases marginal cost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fit maximizing point shift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rt of the tax is shifted to consumer in the form of higher pric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ower quantity is produced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nopolist’s profit is reduced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A4248680-7F35-436F-BA07-E262752989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Taxing the Monopoli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BB0D2DC2-04D3-4053-A0DB-045A302886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5" name="Picture 2" descr="ftp://ftp.eppg.com/Sayre%20Micro%20images/Chapter%2010/SAYRE-MICRO-10-F10-11.jpg"/>
          <p:cNvPicPr/>
          <p:nvPr/>
        </p:nvPicPr>
        <p:blipFill>
          <a:blip r:embed="rId1"/>
          <a:stretch/>
        </p:blipFill>
        <p:spPr>
          <a:xfrm>
            <a:off x="0" y="1116000"/>
            <a:ext cx="9144000" cy="4753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 txBox="1"/>
          <p:nvPr/>
        </p:nvSpPr>
        <p:spPr>
          <a:xfrm>
            <a:off x="457200" y="1690200"/>
            <a:ext cx="822960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Socially Optimum Price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price that produces the best allocation of products (and therefore resources) from society’s point of view, that is, P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C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Fair-Return Price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ce that guarantees that the firm will earn normal profits only, that is, where P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AC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DA2C8AAF-9169-40F4-BE53-C419711520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Government Price Setting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6FCAA335-E11A-4171-8D0A-C37C3136A7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4" name="Picture 2" descr="ftp://ftp.eppg.com/Sayre%20Micro%20images/Chapter%2010/SAYRE-MICRO-10-F10-12.jpg"/>
          <p:cNvPicPr/>
          <p:nvPr/>
        </p:nvPicPr>
        <p:blipFill>
          <a:blip r:embed="rId1"/>
          <a:stretch/>
        </p:blipFill>
        <p:spPr>
          <a:xfrm>
            <a:off x="0" y="693720"/>
            <a:ext cx="8920080" cy="5584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5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63310AB6-69DD-4EA6-8141-E6410FE65C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Rectangle 3"/>
          <p:cNvSpPr/>
          <p:nvPr/>
        </p:nvSpPr>
        <p:spPr>
          <a:xfrm>
            <a:off x="584280" y="1424160"/>
            <a:ext cx="3700440" cy="50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the graph, indic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 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quantity 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f monopolist is unregulated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 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quantity 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f monopolist charges the socially optimum pric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 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quantity 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f monopolist charges fair-return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0" name="Picture 2" descr="ftp://ftp.eppg.com/Sayre%20Micro%20images/Chapter%2010/SAYRE-MICRO-10-p323.jpg"/>
          <p:cNvPicPr/>
          <p:nvPr/>
        </p:nvPicPr>
        <p:blipFill>
          <a:blip r:embed="rId1"/>
          <a:stretch/>
        </p:blipFill>
        <p:spPr>
          <a:xfrm>
            <a:off x="4221000" y="1604880"/>
            <a:ext cx="4680000" cy="3456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6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6B17F6F8-6CB7-4C24-9357-98D7E217A6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Rectangle 3"/>
          <p:cNvSpPr/>
          <p:nvPr/>
        </p:nvSpPr>
        <p:spPr>
          <a:xfrm>
            <a:off x="584280" y="1424160"/>
            <a:ext cx="3700440" cy="50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the graph, indic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 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quantity 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f monopolist is unregulated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 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quantity 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f monopolist charges the socially optimum pric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 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quantity 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f monopolist charges fair-return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6" name="Picture 2" descr="MicroAK1_ST3"/>
          <p:cNvPicPr/>
          <p:nvPr/>
        </p:nvPicPr>
        <p:blipFill>
          <a:blip r:embed="rId1"/>
          <a:stretch/>
        </p:blipFill>
        <p:spPr>
          <a:xfrm>
            <a:off x="4125960" y="1573200"/>
            <a:ext cx="4592520" cy="3467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Kalinga"/>
            </a:endParaRPr>
          </a:p>
        </p:txBody>
      </p:sp>
      <p:sp>
        <p:nvSpPr>
          <p:cNvPr id="668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AA83BF80-750B-4678-92F9-B96C85E100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6840" y="2509920"/>
            <a:ext cx="8381880" cy="36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Types of barriers to entry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fit maximization for a monopolist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riticisms of monopolie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fences of monopolie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ays that governments can control monopolie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10 Summary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457200" y="1955880"/>
            <a:ext cx="8037360" cy="41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echnical barrier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uch as sole ownership of a resourc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egal barrier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uch as public franchise, licences, patents, and copyright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conomic barrier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aused by economies of scal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08665BE7-F90D-497E-9019-33351A29E8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Barriers to Entry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F2AE3757-63F7-4F5B-B8EE-D1BD61261A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3"/>
          <p:cNvSpPr/>
          <p:nvPr/>
        </p:nvSpPr>
        <p:spPr>
          <a:xfrm>
            <a:off x="882720" y="1488960"/>
            <a:ext cx="737856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ry into the following industries is very difficult. What type of barrier to entry is involved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r operating system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aircraft manufacturing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st coast wild salmon fis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B9370FA3-63FE-4A7A-B801-A0A7D77E4B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3"/>
          <p:cNvSpPr/>
          <p:nvPr/>
        </p:nvSpPr>
        <p:spPr>
          <a:xfrm>
            <a:off x="882720" y="1488960"/>
            <a:ext cx="737856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ry into the following industries is very difficult. What type of barrier to entry is involved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r operating system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aircraft manufacturing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st coast wild salmon fis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Box 10"/>
          <p:cNvSpPr/>
          <p:nvPr/>
        </p:nvSpPr>
        <p:spPr>
          <a:xfrm>
            <a:off x="1839960" y="2967120"/>
            <a:ext cx="638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technical barrier (sole ownership of a resourc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Box 8"/>
          <p:cNvSpPr/>
          <p:nvPr/>
        </p:nvSpPr>
        <p:spPr>
          <a:xfrm>
            <a:off x="1843200" y="3683160"/>
            <a:ext cx="638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economic barrier (economies of scal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Box 11"/>
          <p:cNvSpPr/>
          <p:nvPr/>
        </p:nvSpPr>
        <p:spPr>
          <a:xfrm>
            <a:off x="1822320" y="4416480"/>
            <a:ext cx="638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legal barrier (licence fee requir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 txBox="1"/>
          <p:nvPr/>
        </p:nvSpPr>
        <p:spPr>
          <a:xfrm>
            <a:off x="457200" y="1722600"/>
            <a:ext cx="822960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le to set price rather than having to accept the market-determined pric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n set either price or quantity sold, but not both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ce the monopolist is the industry, it faces the market demand for the produc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mand is a downward-sloping curv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st decrease the price in order to sell mor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D5F586E2-D3A6-4A21-945D-DEC29BD72B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onopol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9DE319C2-EEDB-4CD1-894C-1B2644A8FE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Picture 2" descr="ftp://ftp.eppg.com/Sayre%20Micro%20images/Chapter%2010/SAYRE-MICRO-10-T10-1.jpg"/>
          <p:cNvPicPr/>
          <p:nvPr/>
        </p:nvPicPr>
        <p:blipFill>
          <a:blip r:embed="rId1"/>
          <a:stretch/>
        </p:blipFill>
        <p:spPr>
          <a:xfrm>
            <a:off x="0" y="696960"/>
            <a:ext cx="9144000" cy="406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6T00:16:49Z</dcterms:created>
  <dc:creator>aholowinsky</dc:creator>
  <dc:description/>
  <dc:language>en-US</dc:language>
  <cp:lastModifiedBy>mark_banit</cp:lastModifiedBy>
  <dcterms:modified xsi:type="dcterms:W3CDTF">2012-04-24T12:37:25Z</dcterms:modified>
  <cp:revision>313</cp:revision>
  <dc:subject/>
  <dc:title>Slide 1</dc:title>
</cp:coreProperties>
</file>